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BA82-28A5-4499-8E61-D9C2CB6C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729D-B2B5-418D-9486-0DF47D21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07AE-5C4B-4238-A756-C69CCF84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C26F-68D1-4236-A8D1-87D64ADD2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758D-83D4-46DD-BFBD-7A10A217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7221-1E26-4EA8-988B-A98547E6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2C19-51DC-411E-9170-44E660D9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6E02-D69E-4392-8CED-6AD508E0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693E-EE69-4BDB-BEA9-56E8019C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FFE0-7998-46EE-99E7-1A05CC09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7807-2380-4A5C-B65D-58DE1E82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AE92-5412-4356-AF35-C333881D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A8F7-DE4C-47E4-93D8-934EF582D405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voicethread.com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rebuchet MS"/>
              </a:rPr>
              <a:t>Voicethread!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Trebuchet MS"/>
                <a:hlinkClick r:id="rId1"/>
              </a:rPr>
              <a:t>https://voicethread.com</a:t>
            </a: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Let</a:t>
            </a:r>
            <a:r>
              <a:rPr b="0" lang="ja-JP" sz="44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s take a picture!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Go to Photo Booth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ake a picture of yourself.  You may have a friend who is sitting near you be in the picture as well.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ave the picture on the desktop (in order that you will be able to find it again shortly).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Let</a:t>
            </a:r>
            <a:r>
              <a:rPr b="0" lang="ja-JP" sz="44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s learn about Voicethread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atch this great tutorial!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ow!  Yes!  You too will be have a Voicethread spot to upload your musical performances!  (Remember, this will replace practice records.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It</a:t>
            </a:r>
            <a:r>
              <a:rPr b="0" lang="ja-JP" sz="44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s time to get started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Go to Voicethread.co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n the upper right hand corner, click on </a:t>
            </a:r>
            <a:r>
              <a:rPr b="0" lang="ja-JP" sz="3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egister.</a:t>
            </a:r>
            <a:r>
              <a:rPr b="0" lang="ja-JP" sz="32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nce you have logged in, upload the picture that you took on Photo Booth.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If you finish…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hare your picture with a friend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omment on a friend’s picture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hange your name’s icon.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5:06:19Z</dcterms:created>
  <dc:creator>Eagle Schools</dc:creator>
  <dc:description/>
  <dc:language>en-US</dc:language>
  <cp:lastModifiedBy>Microsoft Office User</cp:lastModifiedBy>
  <dcterms:modified xsi:type="dcterms:W3CDTF">2011-06-05T03:43:27Z</dcterms:modified>
  <cp:revision>5</cp:revision>
  <dc:subject/>
  <dc:title>Voicethread!</dc:title>
</cp:coreProperties>
</file>